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6.jpeg" ContentType="image/jpeg"/>
  <Override PartName="/ppt/media/laser.wav" ContentType="audio/x-wav"/>
  <Override PartName="/ppt/media/image15.jpeg" ContentType="image/jpeg"/>
  <Override PartName="/ppt/media/explode.wav" ContentType="audio/x-wav"/>
  <Override PartName="/ppt/media/image5.jpeg" ContentType="image/jpeg"/>
  <Override PartName="/ppt/media/image14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click.wav" ContentType="audio/x-wav"/>
  <Override PartName="/ppt/media/whoosh.wav" ContentType="audio/x-wav"/>
  <Override PartName="/ppt/media/image10.jpeg" ContentType="image/jpeg"/>
  <Override PartName="/ppt/media/image8.jpeg" ContentType="image/jpeg"/>
  <Override PartName="/ppt/media/bomb.wav" ContentType="audio/x-wav"/>
  <Override PartName="/ppt/media/arrow.wav" ContentType="audio/x-wav"/>
  <Override PartName="/ppt/media/camera.wav" ContentType="audio/x-wav"/>
  <Override PartName="/ppt/media/image17.jpeg" ContentType="image/jpeg"/>
  <Override PartName="/ppt/media/image20.jpeg" ContentType="image/jpeg"/>
  <Override PartName="/ppt/media/image21.jpeg" ContentType="image/jpeg"/>
  <Override PartName="/ppt/media/chimes.wav" ContentType="audio/x-wav"/>
  <Override PartName="/ppt/media/suction.wav" ContentType="audio/x-wav"/>
  <Override PartName="/ppt/media/image25.jpeg" ContentType="image/jpeg"/>
  <Override PartName="/ppt/media/image18.jpeg" ContentType="image/jpeg"/>
  <Override PartName="/ppt/media/image23.jpeg" ContentType="image/jpeg"/>
  <Override PartName="/ppt/media/push.wav" ContentType="audio/x-wav"/>
  <Override PartName="/ppt/media/image19.jpeg" ContentType="image/jpeg"/>
  <Override PartName="/ppt/media/image24.jpeg" ContentType="image/jpeg"/>
  <Override PartName="/ppt/media/drumroll.wav" ContentType="audio/x-wav"/>
  <Override PartName="/ppt/media/image26.jpeg" ContentType="image/jpeg"/>
  <Override PartName="/ppt/media/applause.wav" ContentType="audio/x-wav"/>
  <Override PartName="/ppt/media/image1.jpeg" ContentType="image/jpeg"/>
  <Override PartName="/ppt/media/image22.jpeg" ContentType="image/jpeg"/>
  <Override PartName="/ppt/media/cashreg.wav" ContentType="audio/x-wav"/>
  <Override PartName="/ppt/media/image2.jpeg" ContentType="image/jpeg"/>
  <Override PartName="/ppt/media/hammer.wav" ContentType="audio/x-wav"/>
  <Override PartName="/ppt/media/image12.jpeg" ContentType="image/jpeg"/>
  <Override PartName="/ppt/media/image4.png" ContentType="image/png"/>
  <Override PartName="/ppt/media/image6.jpeg" ContentType="image/jpeg"/>
  <Override PartName="/ppt/media/type.wav" ContentType="audio/x-wav"/>
  <Override PartName="/ppt/media/image7.jpeg" ContentType="image/jpeg"/>
  <Override PartName="/ppt/media/image3.jpeg" ContentType="image/jpeg"/>
  <Override PartName="/ppt/media/voltage.wav" ContentType="audio/x-wav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3871-449C-4CBA-8ABF-A1D7527C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785-5A2B-43AA-92BE-C47D2A43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0DC-DC82-473B-8D63-1585B624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C50E-8D98-4E3F-A460-A1A477CC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092B-C301-4E02-8DA5-823DB271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AC97-6C33-4550-855B-54973209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2E7A-E81F-4E48-B54E-6634C9D2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7283-2335-4551-9AC1-A2BF95B1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8444-B5F3-49AE-A5A5-B9C19B33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9D34-024E-494D-A63B-4E908B95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AE89-3659-480E-AFE5-1394F87D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BDDA-2D5E-4297-8AC6-C222F28D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4669-1237-487D-8390-FD7FD8AF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F5D2-3523-48FB-8028-04AAA6F1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B9BE-05AB-4048-B28D-5276774C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964A-D57E-42B6-ACCD-5E0892D7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C175-DEF1-46D9-86FA-F3135689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F5E4C-EB39-4E4B-8413-B87DAB72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04908-A4BE-4AA6-846E-A99D326E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74F5C-2BBF-46C7-9FAC-FD1D935B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77448-001F-4B40-9B49-1318A184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60543-E195-41CC-9CD2-4AAE9F90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838-9611-4A52-B12B-29F4B52C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98146-F349-44B6-9806-70DD3EF1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FB982-B090-4CAC-9BC9-ED8104A3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093D2-6080-49D7-BB11-52227F94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D6811-7717-4198-B0D9-F17C4E5C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09B39-6C33-42AF-9389-15EA3B3E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14CFF-FA90-4AF9-81AA-D6DFE96C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443CF-0778-4B35-AFC0-F66EB5B5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B778B-5EB6-4DD8-8B72-6C68B8F1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166BD-C3E6-44B6-8934-CD753E78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F9B0D-68BE-47FB-86C7-409AE832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FD6A-CAC4-4A8B-B830-C36D3C68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C2A44-00A6-41C4-B0AC-AC0368D9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E3DDB-828A-4475-B659-490F2643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5182B-A285-4E3D-937F-201AF4DB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01F75-B797-4720-BA4A-F16F3873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B7FF5-87BE-4779-AEA1-0DFF5A43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D2C13-D2F0-4642-A75C-46BDAF0F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7B230-8B71-4285-AA65-776ABC0B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4CC0E-E8B8-4DA9-88C3-BC1B6006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64A61-3C5B-44D4-BEC7-B3C1B04C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79211-D3D0-47EE-88FA-AA0B3EB4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2DF-F580-4E0F-AEC7-1665AE64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DFFB2-A7F0-4AFD-B71E-AE6CBA07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4484C-357A-49EE-9183-83CE4095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5D358-69A6-4E28-B387-B002140C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00A24-7556-4A36-87C1-9EC2CE84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516F4-986C-47DC-BBFA-DBB8A299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741D1-A948-4C96-A332-16AE33EB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26080-B9B7-4880-A903-EF770D10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A34D8-D273-4FC3-B38E-B8B43173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B5AC9-25DE-453B-9BDE-8F9451E5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B8168-4826-4EF5-8A0A-F8E2DB36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6984-694B-4201-A232-C3D3C1E1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C5E3A-3937-4105-8309-C022B2D5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C84B7-FB85-4B48-ADED-F296B706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8C9B6-9D83-428B-B59B-D992165B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A8A98-08BF-4537-B3B4-DBDCE48B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21F91-9012-4D5D-9147-6797AC3A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D11CC-EF6F-40C6-A95C-885301FE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6B7FD-A219-4F53-BA61-1FF66252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A32DA-937E-415F-A161-A225DAF9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60DBE-6EFE-4012-A5B1-629CE3DA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13923-FF5E-42C6-85F3-7CA95D5C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0A77-B749-4F2A-A362-160D38F1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B3F14-3E72-45A9-9B51-419FE32F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19885-2F33-40AE-A66A-EB569865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29E06-6D5C-4171-AADC-90857F25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5F1-9308-480C-81E3-75198A1E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799A-E9E8-4587-B63E-45C2E86F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7796-5B81-4A10-9DF2-EBC283704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1AFD-D166-4B28-8FA1-72339A3DDC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AE36-D9FB-4AE2-A518-9768EA3446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C370-F394-4A4E-886F-9F242BC192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E2F1-6F30-4932-8E2D-C94E923B6B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3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5E12-A544-4F34-B555-03DF18C2E5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drumroll.wav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drumroll.wav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applause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cashreg.wav"/><Relationship Id="rId22" Type="http://schemas.openxmlformats.org/officeDocument/2006/relationships/audio" Target="../media/cashreg.wav"/><Relationship Id="rId23" Type="http://schemas.openxmlformats.org/officeDocument/2006/relationships/audio" Target="../media/cashreg.wav"/><Relationship Id="rId24" Type="http://schemas.openxmlformats.org/officeDocument/2006/relationships/audio" Target="../media/cashreg.wav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push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lick.wav"/><Relationship Id="rId4" Type="http://schemas.openxmlformats.org/officeDocument/2006/relationships/audio" Target="../media/push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5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shreg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258560" y="4149720"/>
            <a:ext cx="651348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Урок природоведения в 4 классе по программе Плешак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116000" y="1052640"/>
            <a:ext cx="66978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>
                    <a:alpha val="99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вотные леса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>
                  <a:alpha val="99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9,-32,-6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ЗАЯЦ - БЕЛЯК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ЕЛИЧ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лина тела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8-68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лина хвоста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,5-10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асса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,5-5 к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БРАЗ ЖИЗ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ивычки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диночки; в брачный период, осенью и зимой, объединяются в маленькие групп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ища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равы, многолетники, низкие кустарн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должительность жизни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ычно около 2 лет, очень редко 8-9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572000" y="2019240"/>
            <a:ext cx="4321080" cy="450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000"/>
                            </p:stCondLst>
                            <p:childTnLst>
                              <p:par>
                                <p:cTn id="5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23640" y="4437000"/>
            <a:ext cx="82803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яцы-беляки большую часть своей жизни проводят в одиночестве. С приходом зимы в Арктике зайцы начинают объединяться в небольшие группки. Зимой жизнь в группах обеспечивает им лучшую защиту от хищников. В случае опасности вся группа разбегается в разные стороны, что на некоторое время выбивает врага из колеи и дает белякам больше шансов на спасе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95280" y="264960"/>
            <a:ext cx="4238640" cy="41086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003640" y="339120"/>
            <a:ext cx="331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яц-беляк является добычей многих хищников. К его основным врагам относятся песец, волк, рысь, филин и беркут. Поэтому нет ничего удивительного в том, что заяц-беляк отличается хорошо развитой покровительственной окраской, большой подвижностью и умением быстро бег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979640" y="549360"/>
            <a:ext cx="511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УКУШКА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4824360" cy="388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"/>
          <p:cNvGraphicFramePr/>
          <p:nvPr/>
        </p:nvGraphicFramePr>
        <p:xfrm>
          <a:off x="3108240" y="2274840"/>
          <a:ext cx="2928960" cy="143820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3110040" y="410112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8720" y="1970640"/>
            <a:ext cx="31669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ВЕЛИЧИ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Длина: ДО 40 С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Размах крыльев: 55-60 с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Масса: 110-</a:t>
            </a: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130 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ОБРАЗ ЖИЗН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Привычки: 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одиночки; в период </a:t>
            </a: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гнездования на короткое время образуют пар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Пища: 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насекомые и их личинки. </a:t>
            </a: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Звуки: </a:t>
            </a: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самец «ку-ку», самка из­дает звучные горловые трел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</a:rPr>
              <a:t>РОДСТВЕННЫЕ ВИ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К роду кукушек принадлежит 130 видов птиц, обитающих почти во всем мире. Ближайшим родственником является глухая кукуш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750"/>
                            </p:stCondLst>
                            <p:childTnLst>
                              <p:par>
                                <p:cTn id="606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4150"/>
                            </p:stCondLst>
                            <p:childTnLst>
                              <p:par>
                                <p:cTn id="618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700"/>
                            </p:stCondLst>
                            <p:childTnLst>
                              <p:par>
                                <p:cTn id="624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800"/>
                            </p:stCondLst>
                            <p:childTnLst>
                              <p:par>
                                <p:cTn id="630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7200"/>
                            </p:stCondLst>
                            <p:childTnLst>
                              <p:par>
                                <p:cTn id="636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750"/>
                            </p:stCondLst>
                            <p:childTnLst>
                              <p:par>
                                <p:cTn id="642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9200"/>
                            </p:stCondLst>
                            <p:childTnLst>
                              <p:par>
                                <p:cTn id="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9700"/>
                            </p:stCondLst>
                            <p:childTnLst>
                              <p:par>
                                <p:cTn id="6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450"/>
                            </p:stCondLst>
                            <p:childTnLst>
                              <p:par>
                                <p:cTn id="6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1200"/>
                            </p:stCondLst>
                            <p:childTnLst>
                              <p:par>
                                <p:cTn id="6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850"/>
                            </p:stCondLst>
                            <p:childTnLst>
                              <p:par>
                                <p:cTn id="6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2400"/>
                            </p:stCondLst>
                            <p:childTnLst>
                              <p:par>
                                <p:cTn id="6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4900"/>
                            </p:stCondLst>
                            <p:childTnLst>
                              <p:par>
                                <p:cTn id="6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450"/>
                            </p:stCondLst>
                            <p:childTnLst>
                              <p:par>
                                <p:cTn id="6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3640" y="333360"/>
            <a:ext cx="39668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Кукушка известна тем, что откладывает свои яйца в гнезда других птиц. Ее птенцов выкармливают приемные родители. Такое поведение пернатых называется гнездовым паразитизмом. Каждая кукушка подбрасывает яйца в гнезда того вида птиц, которые выкормили ее саму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3961080" cy="37497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4788000" y="4234320"/>
            <a:ext cx="41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Кукушка питается насекомыми, которых обычно отыскивает на деревьях и в кустарнике. Она склевывает всех насекомых, которые попадаются у нее на пути. Кукушка -одна из немногих птиц, которые поедают и мохнатых гусениц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3527280" cy="28083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29" name=""/>
          <p:cNvSpPr/>
          <p:nvPr/>
        </p:nvSpPr>
        <p:spPr>
          <a:xfrm>
            <a:off x="684360" y="5950080"/>
            <a:ext cx="35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5640" y="5950080"/>
            <a:ext cx="3529080" cy="358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26920" y="6021360"/>
            <a:ext cx="3167280" cy="576360"/>
          </a:xfrm>
          <a:custGeom>
            <a:avLst/>
            <a:gdLst>
              <a:gd name="textAreaLeft" fmla="*/ 395640 w 3167280"/>
              <a:gd name="textAreaRight" fmla="*/ 2771640 w 3167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Tahoma"/>
              </a:rPr>
              <a:t>БЕЛК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ВЕЛИЧ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Длина: 20-32 С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Длина хвоста: 19-31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Масса: 200-1000 г, в зависимости от времени года (летом белка весит меньш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ОБРАЗ ЖИЗ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Привычки: живут на деревьях. Держатся поодиночк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Звуки: резкое «тюк-тюк-тю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Пища: шишки, кора, сок растении, орехи, яйца, грибы и насеком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Продолжительность жизни: обычно 2-3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10080" y="1557360"/>
            <a:ext cx="404352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6000"/>
                            </p:stCondLst>
                            <p:childTnLst>
                              <p:par>
                                <p:cTn id="7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6500"/>
                            </p:stCondLst>
                            <p:childTnLst>
                              <p:par>
                                <p:cTn id="7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7000"/>
                            </p:stCondLst>
                            <p:childTnLst>
                              <p:par>
                                <p:cTn id="7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8000"/>
                            </p:stCondLst>
                            <p:childTnLst>
                              <p:par>
                                <p:cTn id="7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8500"/>
                            </p:stCondLst>
                            <p:childTnLst>
                              <p:par>
                                <p:cTn id="7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7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9500"/>
                            </p:stCondLst>
                            <p:childTnLst>
                              <p:par>
                                <p:cTn id="7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32000" y="380520"/>
            <a:ext cx="3754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При помощи сильных задних лапок, снабженных острыми коготками, белка замечательно лазает по деревьям</a:t>
            </a:r>
            <a:r>
              <a:rPr b="0" lang="en-US" sz="1800" spc="-1" strike="noStrike">
                <a:solidFill>
                  <a:srgbClr val="993300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4076640"/>
            <a:ext cx="424800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Белки ведут дневной образ жизни. Они проводят дни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в поисках пищи, часть которой сразу же съедают, а другую прячут в тайники, таким образом они делают запасы на зиму. Когда количество пищи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уменьшается, белки выходят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на поиски корма уже на рассвете.</a:t>
            </a: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3384720" cy="29131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4932360" y="191628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Белки, обитающие в городских парках и садах, охотно берут пищу, которую им приносят люди, однако их лесные собратья стараются избегать люд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03200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859280" y="1341000"/>
            <a:ext cx="403848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Эту презентацию вашему вниманию представила 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Красноборской начальной школ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Ожегова Людмила Никола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45608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12000" y="198108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Tahoma"/>
              </a:rPr>
              <a:t>ВЕЛИЧИ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Длина: самец 112 см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самка 108 с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Длина хвоста: до 40 с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Масса: самец 5,9 кг, самка 5,2 кг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Tahoma"/>
              </a:rPr>
              <a:t>ОБРАЗ ЖИЗН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Привычки: ночной образ жизни; совместная забота о потомстве, в остальное время держатся по одиночк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Пища: дождевые черви, кролики, птицы, насекомые, плоды. Продолжительность жизни: на свободе от 18 месяцев до 2 лет, в неволе до 14 л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Tahoma"/>
              </a:rPr>
              <a:t>РОДСТВЕННЫЕ ВИД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ahoma"/>
              </a:rPr>
              <a:t>Почти 50 различных подвидов, наиболее известный - серебристая лис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808520" cy="53276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835280" y="404640"/>
            <a:ext cx="590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ЖАЯ ЛИСИЦА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4000" y="3789000"/>
            <a:ext cx="44654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Лисы ведут одиночный образ жизни, за исключением брачного периода и 3-4 месяцев, когда вместе заботятся о потомстве. Большую часть дня они поводят в норе или логове. Лисы хорошо приспособлены для ночной охоты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43280" y="764640"/>
            <a:ext cx="4197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ahoma"/>
              </a:rPr>
              <a:t>Веками человек охотился на лис ради красивого меха. Но лисы – сообразительные животные. Они быстро приспосабливаются к новым условиям, поэтому исчезновение этому виду не грози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887640" cy="30686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788000" y="3141720"/>
            <a:ext cx="3960720" cy="301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Tahoma"/>
              </a:rPr>
              <a:t>СНЕГИР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ВЕЛИЧИ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Длина: 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</a:rPr>
              <a:t>I </a:t>
            </a: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5 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</a:rPr>
              <a:t>CM</a:t>
            </a: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Размах крыльев: 25 с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Масса: до 34 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ОБРАЗ ЖИЗН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Привычки: пугливые птиц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Пища: семена, почки деревьев и кустарников и ягод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Продолжительность жизни:2-4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РОДСТВЕННЫЕ ВИД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На Азорских островах обитает подвид снегиря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P</a:t>
            </a:r>
            <a:r>
              <a:rPr b="1" i="1" lang="ru-RU" sz="1600" spc="-1" strike="noStrike">
                <a:solidFill>
                  <a:srgbClr val="996633"/>
                </a:solidFill>
                <a:latin typeface="Tahoma"/>
              </a:rPr>
              <a:t>.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p</a:t>
            </a:r>
            <a:r>
              <a:rPr b="1" i="1" lang="ru-RU" sz="1600" spc="-1" strike="noStrike">
                <a:solidFill>
                  <a:srgbClr val="996633"/>
                </a:solidFill>
                <a:latin typeface="Tahoma"/>
              </a:rPr>
              <a:t>.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murina</a:t>
            </a:r>
            <a:r>
              <a:rPr b="1" i="1" lang="ru-RU" sz="1600" spc="-1" strike="noStrike">
                <a:solidFill>
                  <a:srgbClr val="996633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в оперении которого отсутствует красный цвет. Североевропейский подвид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P</a:t>
            </a:r>
            <a:r>
              <a:rPr b="1" i="1" lang="ru-RU" sz="1600" spc="-1" strike="noStrike">
                <a:solidFill>
                  <a:srgbClr val="996633"/>
                </a:solidFill>
                <a:latin typeface="Tahoma"/>
              </a:rPr>
              <a:t>.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p</a:t>
            </a:r>
            <a:r>
              <a:rPr b="1" i="1" lang="ru-RU" sz="1600" spc="-1" strike="noStrike">
                <a:solidFill>
                  <a:srgbClr val="996633"/>
                </a:solidFill>
                <a:latin typeface="Tahoma"/>
              </a:rPr>
              <a:t>. </a:t>
            </a:r>
            <a:r>
              <a:rPr b="1" i="1" lang="en-US" sz="1600" spc="-1" strike="noStrike">
                <a:solidFill>
                  <a:srgbClr val="996633"/>
                </a:solidFill>
                <a:latin typeface="Tahoma"/>
              </a:rPr>
              <a:t>pyrrhula </a:t>
            </a:r>
            <a:r>
              <a:rPr b="1" lang="ru-RU" sz="1600" spc="-1" strike="noStrike">
                <a:solidFill>
                  <a:srgbClr val="996633"/>
                </a:solidFill>
                <a:latin typeface="Tahoma"/>
              </a:rPr>
              <a:t>отличается более крупными размер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3868560" cy="46418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187280" y="260280"/>
            <a:ext cx="1368720" cy="13683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27280" y="274680"/>
            <a:ext cx="425916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Снегирь живет в Средней Европе, за исключением высоких гор и части побережья Северного моря, круглый год. Его легко узнать по характерной черной шапочке. Самца трудно перепутать с какой-либо другой птицей благодаря ярко окрашенным шее, груди и брюшку. Снегири отличаются не только красотой, но и солидностью: они никогда не торопятся, не суетятся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-360" y="4220640"/>
            <a:ext cx="514836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Снегирей часто можно увидеть на фруктовых деревьях в парке, в саду. В некоторых странах садоводы стреляют в снегирей или ловят их в силки, хотя исследования показали, что эти птицы кормятся на фруктовых деревьях только в том случае, когда им не хватает семян дикорастущих видов растений. Когда-то люди держали снегирей, как и других певчих птиц, в клетках. Снегирь - очень легко выучивает мелодии, которые ему насвистывает владелец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3957840" cy="3960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292720" y="3716280"/>
            <a:ext cx="3095640" cy="28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302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ВЕЛИЧИ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Длина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1,5-3 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Высота в холке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1,50-2,3 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Масса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270-500 кг, на Аляске до 600 кг; самец значительно крупнее и тяжелее сам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ОБРАЗ ЖИЗ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Привычки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держатся поодиночке, зимой небольшими группами. 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Пища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листья, хвоя, ветки, водная растительность, кора. 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Продолжительность жизни: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20 </a:t>
            </a: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л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7"/>
                </a:solidFill>
                <a:latin typeface="Arial"/>
              </a:rPr>
              <a:t>РОДСТВЕННЫЕ ВИ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b7"/>
                </a:solidFill>
                <a:latin typeface="Arial"/>
              </a:rPr>
              <a:t>Лось - единственный вид своего рода. Некоторые ученые выделяют в семействе оленевых отдельное подсемейство - лоси </a:t>
            </a:r>
            <a:r>
              <a:rPr b="0" i="1" lang="ru-RU" sz="1600" spc="-1" strike="noStrike">
                <a:solidFill>
                  <a:srgbClr val="ffffb7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ffffb7"/>
                </a:solidFill>
                <a:latin typeface="Arial"/>
              </a:rPr>
              <a:t>Alcinae</a:t>
            </a:r>
            <a:r>
              <a:rPr b="0" i="1" lang="ru-RU" sz="1600" spc="-1" strike="noStrike">
                <a:solidFill>
                  <a:srgbClr val="ffffb7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851280" y="1484280"/>
            <a:ext cx="5116680" cy="5184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2556000" y="260280"/>
            <a:ext cx="424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ОСЬ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8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219280" y="333000"/>
            <a:ext cx="35146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У лося очень слабое зрение – это компенсируется великолепно развитым слухом и обонянием. Известны случаи, когда лоси во время гона атаковали поезда, звук сигналов которых принимали за рев конкурентов.</a:t>
            </a:r>
            <a:r>
              <a:rPr b="0" lang="en-US" sz="1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000" y="3933360"/>
            <a:ext cx="3949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Лоси, как правило, держатся поодиночке или маленькими группами. Весной и летом самцы и самки держатся отдельно. Самки в это время живут со своими детенышами. Летом лоси встречаются преимущественно на равнинах, вблизи озер и болот. С наступлением похолодания животные ухолят на возвышенности и ищут укрытия в лес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148360" y="2492280"/>
            <a:ext cx="3671640" cy="4032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608360" cy="34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650"/>
                            </p:stCondLst>
                            <p:childTnLst>
                              <p:par>
                                <p:cTn id="41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33"/>
                </a:solidFill>
                <a:latin typeface="Garamond"/>
              </a:rPr>
              <a:t>ВАЛЬДШНЕП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889440" cy="367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4284720" y="1628640"/>
          <a:ext cx="4858920" cy="4601880"/>
        </p:xfrm>
        <a:graphic>
          <a:graphicData uri="http://schemas.openxmlformats.org/drawingml/2006/table">
            <a:tbl>
              <a:tblPr/>
              <a:tblGrid>
                <a:gridCol w="4858920"/>
              </a:tblGrid>
              <a:tr h="460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ВЕЛИЧ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лина тела: 33-35 см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лина клюва: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,5-8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см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лина крыла: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о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20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с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Масса: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290-320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ОБРАЗ ЖИЗ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Привычки: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ержатся поодиночке; полигамны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Пища: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дождевые черви, насеко</a:t>
                      </a: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мые 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и их личинки, в основном жуки и личинки двукрылы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400"/>
                            </p:stCondLst>
                            <p:childTnLst>
                              <p:par>
                                <p:cTn id="4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4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Благодаря своей окраске, вальдшнеп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почти не заметен на фоне опавш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листвы. Перья на крыльях и теле у не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ржавчато-бурые с темными пятнами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брюшко беловато-охристое с коричневы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поперечными полосами. На голове вид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перемежающиеся светлые и темные полос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24800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500"/>
                            </p:stCondLst>
                            <p:childTnLst>
                              <p:par>
                                <p:cTn id="4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500"/>
                            </p:stCondLst>
                            <p:childTnLst>
                              <p:par>
                                <p:cTn id="4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3:17:17Z</dcterms:created>
  <dc:creator>user</dc:creator>
  <dc:description/>
  <dc:language>en-US</dc:language>
  <cp:lastModifiedBy>Владимир Меженный</cp:lastModifiedBy>
  <dcterms:modified xsi:type="dcterms:W3CDTF">2006-12-26T10:00:19Z</dcterms:modified>
  <cp:revision>6</cp:revision>
  <dc:subject/>
  <dc:title>Слайд 1</dc:title>
</cp:coreProperties>
</file>